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7F8-711B-419E-AF01-41EB824C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8C4-D1A8-45C7-9786-040476F2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EA5F-018B-4DCF-A950-42282454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B48-1D99-48DB-A6F8-7FD4EF27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484-929B-43DE-B31A-3B6F05BD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23F-066C-4C00-9314-0460218E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D25-4CE6-46B3-BDAB-680D2669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819-1F67-4F9D-A69D-97118319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3E7-532A-43FE-A4D4-B04DF65C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ABE-21A9-469C-BE45-AC54D090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9327-876A-4B06-AF6B-267D7F23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247-D15F-4A2D-B524-7EC7C1D4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c3ce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EB1E-3830-43A7-B52E-7E30F74A2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c3ce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 Book of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Vaiva, Courtney, and Aa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c3ce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iew with Nijole Pup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c3ce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Methods of Traveling to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400" t="13500" r="2400" b="4500"/>
          <a:stretch/>
        </p:blipFill>
        <p:spPr>
          <a:xfrm>
            <a:off x="6248520" y="1676520"/>
            <a:ext cx="2198520" cy="1760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2666880" cy="145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2222" t="8470" r="2222" b="8470"/>
          <a:stretch/>
        </p:blipFill>
        <p:spPr>
          <a:xfrm>
            <a:off x="3352680" y="1523880"/>
            <a:ext cx="2549520" cy="1743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8600" y="4648320"/>
            <a:ext cx="2133720" cy="14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rcRect l="1339" t="3707" r="1339" b="1853"/>
          <a:stretch/>
        </p:blipFill>
        <p:spPr>
          <a:xfrm>
            <a:off x="2514600" y="4114800"/>
            <a:ext cx="2076480" cy="1496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724280" y="5257800"/>
            <a:ext cx="2000520" cy="1363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1125" t="2535" r="1125" b="2535"/>
          <a:stretch/>
        </p:blipFill>
        <p:spPr>
          <a:xfrm>
            <a:off x="6858000" y="4572000"/>
            <a:ext cx="21448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21:06:34Z</dcterms:created>
  <dc:creator>Student</dc:creator>
  <dc:description/>
  <dc:language>en-US</dc:language>
  <cp:lastModifiedBy>Courtney</cp:lastModifiedBy>
  <dcterms:modified xsi:type="dcterms:W3CDTF">2009-01-13T00:17:01Z</dcterms:modified>
  <cp:revision>3</cp:revision>
  <dc:subject/>
  <dc:title>Log Book of 20th century </dc:title>
</cp:coreProperties>
</file>